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67D-7189-4C85-AA87-3A9465CD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117-F0D9-4676-9719-F3CE47A2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9E0-A633-4E41-B39D-37B5CA77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738-311B-4DF1-B7C9-0581A516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2E1D-A61B-4E72-9DFF-136540E5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03B1-1067-49BA-8950-3F23114A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9790-4227-4CB6-903E-5C8F447C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1E02-9120-4D53-B780-7BE72894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E088-05AC-4056-9ADA-3F20CDFD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D387-93F6-4240-A4EC-8B3270C9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C033-9884-4AC5-88DA-DE573694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3FE-41EE-4C7C-8A27-205A8173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DD59-69A6-435E-A45E-035174F9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410C-D9A0-4156-84A4-81B332C2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6874-2C9B-48B6-B428-9090DCA5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009E-2BDF-4B88-8674-CC0B84E7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7C17-DF31-42AD-B473-6DAFB515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8F2-8CCB-4284-82C9-51AA2DF3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DFA-5EBB-42DC-BD9F-CB1CBFF5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DD8-75DD-4EEF-BCE3-FFDBAEF8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619-DF36-40CA-AFE9-855B245F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DE8-5F79-4BB7-93E1-BC8852B4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10E-9787-450C-A47A-8A2FD97A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E36-3F8B-4B23-BFDF-C29490EF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CC50-607A-4CB7-AF67-223D94834CE0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25CF-7623-49F4-80BC-8ED1137C16C4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en.wikipedia.org/wiki/Image:Mao.JPG" TargetMode="External"/><Relationship Id="rId3" Type="http://schemas.openxmlformats.org/officeDocument/2006/relationships/hyperlink" Target="http://en.wikipedia.org/wiki/Image:Mao.JPG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2/Wattsriots-burningbuildings-loc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en.wikipedia.org/wiki/Image:Malcolm_X_NYWTS_2a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.3:  New Civil Right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Economic equality, poverty, and the rise of militant leadershi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.  Black Pan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eveloped to fight police brutality in ghettos of Oakland, Ca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YI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rganization greatly involved in community service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320" y="1731960"/>
            <a:ext cx="17859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0" tIns="-107280" bIns="-8028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3600" y="1731960"/>
            <a:ext cx="9001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280008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714680" y="57168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0600" y="195120"/>
            <a:ext cx="890424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o Zedong-Black Panther Conn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ower flows out of the barrel of a gun.”                                 </a:t>
            </a:r>
            <a:r>
              <a:rPr b="0" lang="en-US" sz="3200" spc="-1" strike="noStrike" u="sng">
                <a:solidFill>
                  <a:srgbClr val="ae4828"/>
                </a:solidFill>
                <a:uFillTx/>
                <a:latin typeface="Arial"/>
                <a:hlinkClick r:id="rId2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5" name="" descr="Mao Zedo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2133720"/>
            <a:ext cx="2149560" cy="2857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-2344680" y="1486080"/>
            <a:ext cx="85042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Original 6 members"/>
          <p:cNvPicPr/>
          <p:nvPr/>
        </p:nvPicPr>
        <p:blipFill>
          <a:blip r:embed="rId5"/>
          <a:stretch/>
        </p:blipFill>
        <p:spPr>
          <a:xfrm>
            <a:off x="5105520" y="2133720"/>
            <a:ext cx="348588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 April 4, 19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James Earl Ray assassinates ML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iolence erupts throughout the US/125 c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33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094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2498760" cy="3440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114800" y="2590920"/>
            <a:ext cx="48006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.  Civil Rights Leg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*  Civil Rights Act 1964; banned discrimination in public places and employment due to race etc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*   Civil Rights Act 1968; banned discrimination in hous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nded de jure segreg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chool integ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llege enrollment increas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lack prid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A curriculu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ntertain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2/3rds registered vot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7,000 elected official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*  Affirmative action: making special efforts to hire or enroll groups that have suffered from discrimination in the pa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Urba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712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 </a:t>
            </a:r>
            <a:r>
              <a:rPr b="0" i="1" lang="en-US" sz="2000" spc="-1" strike="noStrike">
                <a:solidFill>
                  <a:srgbClr val="333333"/>
                </a:solidFill>
                <a:latin typeface="Times New Roman"/>
              </a:rPr>
              <a:t>facto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segregation – segregation by practice (it is a </a:t>
            </a:r>
            <a:r>
              <a:rPr b="0" i="1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fa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 </a:t>
            </a:r>
            <a:r>
              <a:rPr b="0" i="1" lang="en-US" sz="2000" spc="-1" strike="noStrike">
                <a:solidFill>
                  <a:srgbClr val="333333"/>
                </a:solidFill>
                <a:latin typeface="Times New Roman"/>
              </a:rPr>
              <a:t>ju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segregation – segregation by law (the 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jur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Whites did not want social and economic equality with A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White fligh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– whites moving to suburb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ow paying jobs/incom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ow work posi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oor neighborhoods: overcrowded, dirty, crime, drop out, single parent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Hopes raised but nothing else =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 Urban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.  Harlem,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Arial"/>
              </a:rPr>
              <a:t>Watts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, Chicago, Detroit…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.  Needed economic equality: opportunity i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jobs, housing, and educ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76960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File:Wattsriots-burningbuildings-lo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868680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. Kerner Com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mmittee appointed by Pres. Johnson to study causes of urban viol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nclusion:  racism against the AA community was the cau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Johnson ignores many recommendations due to white opposi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.  The Shift to Economic R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1. 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Chicago Movemen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6a695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LK moves into AA neighborhood in Chicag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6a695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ped to bring change in hous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6a695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ed march through white neighborhood; met with resistanc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6a695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yor Daley - CPD to protect marcher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6a695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ew programs dev by bankers and realtors to promote open hous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6a695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o real chang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675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09680" y="1819440"/>
            <a:ext cx="6096240" cy="5038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  Cicero, Illinois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 move into neighbor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 “Black Pow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1.   Stokely Carmichael; head of SNCC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buClr>
                <a:srgbClr val="6a6954"/>
              </a:buClr>
              <a:buSzPct val="8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anted only Blacks to fight “for the cause”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Kling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mphasized Black prid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" name="" descr="image 1"/>
          <p:cNvPicPr/>
          <p:nvPr/>
        </p:nvPicPr>
        <p:blipFill>
          <a:blip r:embed="rId1"/>
          <a:stretch/>
        </p:blipFill>
        <p:spPr>
          <a:xfrm>
            <a:off x="5562720" y="1828800"/>
            <a:ext cx="2617560" cy="411804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3675240" y="2017800"/>
            <a:ext cx="9144000" cy="360"/>
            <a:chOff x="3675240" y="2017800"/>
            <a:chExt cx="9144000" cy="360"/>
          </a:xfrm>
        </p:grpSpPr>
        <p:sp>
          <p:nvSpPr>
            <p:cNvPr id="127" name=""/>
            <p:cNvSpPr/>
            <p:nvPr/>
          </p:nvSpPr>
          <p:spPr>
            <a:xfrm>
              <a:off x="3675240" y="20178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5240" y="20178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.  Malcolm “X” Lit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ember of the Nation of Isla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dvocated armed self-defense &amp; black nationalis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ceived a lot of press/controversia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Hajj/returns w/“Ballots or Bullets” theor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ssassinated during speaking engagem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1828800"/>
            <a:ext cx="331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3-22T15:18:45Z</dcterms:modified>
  <cp:revision>10</cp:revision>
  <dc:subject/>
  <dc:title>PowerPoint Presentation</dc:title>
</cp:coreProperties>
</file>